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4465-1095-4086-85AD-9CF0DADF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pdrag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wcoventgardenmarket.com/blog/flower-market-report-jul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zzle.com/articles/incomplete-dominance-examp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estrellamountain.edu/faculty/farabee/BIOBK/biobookgeninter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his is from a very cool website with animated images…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neticsrus.org/Genes/exception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oannelovesscience.com/2009.12.06_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n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georgiasouthern.edu/bio-home/harvey/lect/lectures.html?flnm=gen2&amp;ttl=Sources%20of%20Variation:%20genes&amp;ccode=el&amp;mda=sc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mjmayhew42/Biology%20notes/multiple%20alleles%20not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APbiology/inheritance/11-5_beyond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0CA-7952-4FED-868E-126DA0D5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53F-DF07-489F-BE34-8C4D0DBC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B61-5E5F-42DD-9C05-C24F6D78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304-E81C-40FE-9125-2E489DF4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6CD-C8E4-44A2-B1DA-48350B7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374-5938-4757-BADB-8D834222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9C4-116D-4C80-BA06-7DE888C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251-CC87-481C-904F-64AD82A4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622-A6D6-448F-A1D5-03B3AE45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C28-7598-4A0C-8C72-F60B4C6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717-E80F-425C-8293-6AFB3566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4F7-98A0-40FE-9B6C-29D4BEC9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A2C7-D665-417D-A9CF-60B2720D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 Variations In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ts in Mendel’s pea plants exhibi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lleles interact to produc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pheno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 this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apdra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1981080"/>
            <a:ext cx="37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17720" y="609480"/>
            <a:ext cx="710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6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h alleles are expressed at the same time, producing a mixed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224080"/>
            <a:ext cx="4495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74800"/>
            <a:ext cx="77724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89280" y="609480"/>
            <a:ext cx="5365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5:53Z</dcterms:created>
  <dc:creator>rubina khan</dc:creator>
  <dc:description/>
  <dc:language>en-US</dc:language>
  <cp:lastModifiedBy>rubina khan</cp:lastModifiedBy>
  <dcterms:modified xsi:type="dcterms:W3CDTF">2014-10-16T02:47:35Z</dcterms:modified>
  <cp:revision>80</cp:revision>
  <dc:subject/>
  <dc:title>Genetic Processes</dc:title>
</cp:coreProperties>
</file>